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00272-D58A-482A-9CA6-727BF479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58DA9-22A7-4581-A538-955C36D0D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C975B-32CA-4090-A1D6-2C20B2FA1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2442D-70B0-4029-9D52-97A0AD03F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3ACC2-A1C5-475D-864A-97F4A1CC5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BAD26-48DD-4FC7-845E-D2F49501E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D890B-626C-4EC7-A4EF-505A18C3B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E2D56-BADF-4B27-ADC7-11D753B10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CE70C-2B25-404A-91C3-FE156BAB9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20C58-C886-4247-B0C4-0F6C099FB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E8EFA-2789-4C26-B876-347D30CC0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CD26D-A7E7-4A15-B673-82D230E7A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60B50-5AAA-467E-BDCF-814EFB0E9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547B8-6C1E-4326-9ACB-284989A30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688B5-4F48-462F-831B-CB5E3819E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E5621-4F70-4C4C-A32A-1CCE157B9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DCAB0-78EC-42FE-B5EE-BF985204F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8B82A-CF7C-4001-9BB0-EB5E5B7B3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9EA-D242-465F-A38C-FE664360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ADB-BD5F-48E9-A202-2A08FB42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BCD-E532-477C-B108-F4377DC2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D63-221A-41FB-A264-FAE4FCAE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1DA-3C16-4985-AE9C-3E913A2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F7F-7E1B-435D-95CE-11A29D55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29B-557D-4CAF-BBB1-A2BFE7A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A00-484B-431E-B576-70D7C55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340-8F1B-4B3E-A2BD-417BC75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CAC-6AA9-4A4F-8BAC-F80D36F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3EC-CDCD-4CA6-9880-EAA62287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BEC-C6B0-4ABA-9F9C-6C846F2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65B35-B5CD-47C1-A01D-57001EF110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F2ADA-C711-4A74-A136-B1E8B1746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41E4E92-E3F2-4354-89FB-B42D27A4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I. 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2400" spc="-1" strike="noStrike">
                <a:solidFill>
                  <a:srgbClr val="f39800"/>
                </a:solidFill>
                <a:latin typeface="Helvetica CE"/>
              </a:rPr>
              <a:t>Mgr. Eva Hekrle Mezkov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9547-5F9C-4788-B15A-C58380BB6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29840" y="1712520"/>
            <a:ext cx="645804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1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2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doucí pracovníci škol a školských za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55680" indent="-3556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 se speciálními vzdělávacími potřebami od 3 le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71D20-977E-4829-94EA-EE3750927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dobrovolní pracovníci organizací působících v oblasti vzdělávání nebo asistenčních služeb a v oblasti volného času a zájmového vzdělávání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dporovanou aktivitu 3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se SVP z MŠ a přípravných tříd základních šk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mladiství (do 18 let), kteří předčasně opustili systém počátečního vzdělávání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ci ZŠ a SŠ se SVP a ti žáci, kteří jsou ohroženi předčasným odchodem ze vzdělá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AFC7D-086C-405A-B801-B0F9F910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609DCBB0-8FD8-422F-9C4E-B4C24DB86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F7F85-27D4-4AD7-A878-E2CBFFBEC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ací indikátor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14 – počet podpořených osob v počátečním vzdělávání celkem – dětí, žáků včetně rodič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65 – počet podpořených osob v dalším vzdělávání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00 – počet žáků se speciálními vzdělávacími potřebami začleněných do integrova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12.10 – počet žáků se SVP zařazených do běžných tříd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7.41.20 – počet osob poskytujících služby nebo podporujících poskytování služeb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06.43.10 – počet nově vytvořených/inovovaných produkt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16C81-53F9-4B44-9770-C2B1585CA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0DD7D1F-40E3-4A56-B32E-96107C480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zajistit, aby podpořené aktivy a výstupy byly udržován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 po ukončení financování projektu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pravidel stanovených ES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aktivit a výstupů vedoucích k udržitelnosti projektu musí být uvedena v žádosti o finanční podporu z OP 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kazování udržitelnosti po ukončení financování projektu z OP VK probíhá prostřednictvím ročních monitorovacích zpráv o udržitelnost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CC9E3-0DCE-4CEA-A5F9-D87B6365E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F737E-BC8A-44FB-AC1A-2B853287D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a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32A76-2294-40DE-9D61-6FA922EC5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+  Přílohy č.1, 2, 5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09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29B4E-7F5E-453D-8365-B8464207A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29840" y="1952280"/>
            <a:ext cx="659772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. 3. 2011, 13:00 hod.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24125-83C0-4A12-A769-324C685C2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F7C7F-D411-48B9-8E67-F38FFD4B3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33280" y="2222640"/>
            <a:ext cx="725004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27 (Prioritní osa 1 – Počáteční vzdělávání; Oblast podpory 1.2 – Rovné příležitosti dětí a žáků, včetně dětí a žáků se speciálními vzdělávacími potřebami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5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0. března 2011 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kol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FD3AF-ADD0-4FFD-8F1A-2A0ABB9F5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Mgr. David Kříž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 814 295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david.kriz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09F77-BE44-4D40-9195-74B12F81A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9840" y="1136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4080" y="182844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např. žáci pražských škol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C375A-EB54-41C7-9FF0-9878B98A6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ěkuji Vám za pozornost.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Zástupný symbol pro číslo snímk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0BC18-E671-405E-B8F1-AA8471D7F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8267B27-F280-4A45-B82D-2FF8C0872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27160" y="2374920"/>
            <a:ext cx="707544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Doba trvání realizace projektů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aximálně 36 měsíců a ukončení nejpozději do 30. 6. 2015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Místo realizace: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ídlo žadatele může být na celém území ČR včetně NUTS II hl. m.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6A596-0D5A-481B-8D23-D8560A55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0 000 000 Kč (aktivity 1 a 2 - 105 000 000 Kč, aktivita 3 - 15 000 000 K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0 000 000 Kč</a:t>
            </a:r>
            <a:r>
              <a:rPr b="0" lang="cs-CZ" sz="2000" spc="-1" strike="noStrike">
                <a:solidFill>
                  <a:srgbClr val="ff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aktivity 1 a 2), 15 000 000 Kč (aktivita 3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DEDD0-ABEA-4F5D-B401-5A6E41ADC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y 1 a 2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školy a školská zaříze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tivita 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vysoké ško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estátní neziskové organizac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69111-4889-48FF-879D-D26BBC0BF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, s.23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ídlo na území České republi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351B7-8090-4E19-8AE7-A4A35E2C5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0200" y="2228760"/>
            <a:ext cx="70502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3FF71-E682-4C1A-9161-2EC58A423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EE4D1-9B15-46F3-96E1-9713837C0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9840" y="1079640"/>
            <a:ext cx="64580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29840" y="1777680"/>
            <a:ext cx="645804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ěti a žáci, pokud jsou aktivity realizovaného projektu zaměřeny na vytváření inkluzívního prostředí ve škole a třídě nebo na prevenci sociálně patologických jev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odiče dětí a žák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a vedoucí pracovníci škol a školských zaříze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ci organizací působících v oblasti vzdělávání nebo asistenčních služeb a v oblasti volného času dě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A62F9-354A-4D68-87DD-61111A2D8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1AEBA85-E6A2-4B7B-AF11-9A1E97159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2-03T07:37:58Z</dcterms:modified>
  <cp:revision>198</cp:revision>
  <dc:subject/>
  <dc:title>Titulní strana – Titulek</dc:title>
</cp:coreProperties>
</file>